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B1F-8206-4788-A31B-3DA22CE9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CC9-1404-498B-87D0-D708DC19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CEA-E918-4B13-8D15-18B8107E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9C9-3C29-4883-9583-E58800EA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F13-57B8-42D6-89A0-4B682EEF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DC4-F96D-4554-9479-56FD8E1E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703-0AAE-4ABE-AF22-9D17F718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528-A7A2-40C0-A3B0-5C6363DF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B83-79FF-4D06-B55B-97FA849C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AB1-D6CD-4CF9-8942-9F85A095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166-D85F-403D-A691-2A81E2DE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B92-4498-4565-95D7-382B1C14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9974-0144-4192-958A-9E870505D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nchantedlearning.com/usa/states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fermi.jhuapl.edu/states/maps1/tn.gi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postcardsfrom.com/t1/arcin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502920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thew Alejan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28800" y="1600200"/>
            <a:ext cx="39625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6b8dc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Bauhaus 93"/>
              </a:rPr>
              <a:t>TENNESSE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6b8dc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Bauhaus 93"/>
              <a:ea typeface="Bauhaus 93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715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7680" y="6132600"/>
            <a:ext cx="435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880" y="6284880"/>
            <a:ext cx="60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cky top song  I got this from the Fifty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ennes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50states.com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-534240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gradFill rotWithShape="0">
            <a:gsLst>
              <a:gs pos="0">
                <a:srgbClr val="00dfda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nes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h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17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and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king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y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d from an anglicized spelling of a Cherokee 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b8dc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968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133720"/>
            <a:ext cx="769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133720"/>
            <a:ext cx="458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p about Tennes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p describes  the capital ,cities ,state, mountains , state boundary , water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pa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0" y="5715000"/>
            <a:ext cx="566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got this picture from  Enchanted learning, Tennes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nchantedLearning.com/usa/state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09f7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2000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505320"/>
            <a:ext cx="9007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09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rmi.jhuapl.edu/states/maps1/tn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81080"/>
            <a:ext cx="456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map shows the degrees and  I got this from Longitude . States maps Tennes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09f7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 Nashville Capitol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80060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 picture of Nashville the capital of Tennessee I got this picture from Postcards 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60" y="5638680"/>
            <a:ext cx="45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7Z</dcterms:created>
  <dc:creator>install</dc:creator>
  <dc:description/>
  <dc:language>en-US</dc:language>
  <cp:lastModifiedBy>install</cp:lastModifiedBy>
  <dcterms:modified xsi:type="dcterms:W3CDTF">2011-10-27T13:42:33Z</dcterms:modified>
  <cp:revision>14</cp:revision>
  <dc:subject/>
  <dc:title>Slide 1</dc:title>
</cp:coreProperties>
</file>